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F018-A3D5-4CF7-9A15-05B33F5EFB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EFB-EAD7-4EC9-B96E-941A2A09385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F616-DA05-415B-A367-25A697EAD73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1A3-2BBB-4288-BAB6-7001786CA59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0BA-7510-45D3-A4B4-3D1506660B2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21F-6D32-4320-9980-90B664A96F1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A87F-2FB7-49B9-8687-B47E95960EF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17EF-81C4-4F8F-863C-CCCD66EDC46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D52A-C05F-4F24-8BA1-B714146C667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7391-7FDA-4B98-9C5B-8EFB7F94123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64C-27C3-4C99-A312-2CA9980A91F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5AC1-8E1B-491F-9270-37B8404A17E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8D88-7D81-418D-B6CF-483625E514B2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CF97-1AC4-468D-A876-1C4533F48D81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D263-C9E4-4968-806F-C91836D00E7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F693-7791-4509-9609-AC12652A1AC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A601-FB6A-4701-A9C8-FE536A8DBAF0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1969-24E9-4887-9FA0-0B50483D532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1677-6EEB-4472-A4DE-EAF75F24BA3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1273-129F-4AEB-9C0B-A0F542E22F2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40E-52AB-4479-9372-67906FFE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44E-3013-41E5-93E2-531DC339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1D5-E0F3-42FA-A92E-39ADC4AC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0AA0-440F-497C-A6D6-4A26760D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70CE-B12F-42DF-ACA3-3C042F9E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CC18-3EED-430D-905A-CAB193A5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EA29-9C71-46B6-BDC6-F4F5127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67AC-22E4-4F39-A0AF-4F2411B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DD3F-F453-4023-A2B6-32026553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8CED-BFA3-41DA-9EAF-CE9E73A6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F976-5DDB-4460-9603-FA89B534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66F-FDE6-4109-B8F2-D98A0F4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56C2-FACF-475F-A9AA-551F8E2F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0097-844D-4761-BEA7-47887BC1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4EAE-E8A8-4402-9D93-CE8F15A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8D9-C4A5-4BBE-AF13-11D2DE94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C5C2-CE00-4E16-BBC5-E801F711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61FF-6D63-4B1D-A86B-4FD85B78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3C5-8190-4257-95E3-95334A0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3B0-1C89-47BD-A787-76B92DE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A12-F27F-483A-A95B-6CAD0620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5B5-9A24-4592-9E10-C232604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74D0-CEB4-47A7-991B-5E065B8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6A11-1FCF-448A-B936-1D4D8BB0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64EA-FEAE-4941-BB7E-9CDDBE1E1F7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BA70-3A74-4DDD-90A5-B975699E7C6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oblomov.omsk.edu/win/geroi/oblomov" TargetMode="External"/><Relationship Id="rId3" Type="http://schemas.openxmlformats.org/officeDocument/2006/relationships/hyperlink" Target="http://oblomov.omsk.edu/win/geroi/shtol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42680" y="1356840"/>
            <a:ext cx="623412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42f00"/>
                </a:solidFill>
                <a:latin typeface="Times New Roman"/>
              </a:rPr>
              <a:t>ОБЛОМОВ И ШТОЛЬЦ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5" descr="BS00554_"/>
          <p:cNvPicPr/>
          <p:nvPr/>
        </p:nvPicPr>
        <p:blipFill>
          <a:blip r:embed="rId1"/>
          <a:stretch/>
        </p:blipFill>
        <p:spPr>
          <a:xfrm>
            <a:off x="6156360" y="4508640"/>
            <a:ext cx="2376360" cy="2073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189000"/>
          <a:ext cx="8569440" cy="6476760"/>
        </p:xfrm>
        <a:graphic>
          <a:graphicData uri="http://schemas.openxmlformats.org/drawingml/2006/table">
            <a:tbl>
              <a:tblPr/>
              <a:tblGrid>
                <a:gridCol w="4286160"/>
                <a:gridCol w="4283280"/>
              </a:tblGrid>
              <a:tr h="133056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оспитание</a:t>
                      </a:r>
                      <a:endParaRPr b="0" lang="en-US" sz="4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9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433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Я – барин, и делать      ничего не умею.”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ка-идеал жизни. Любовь и        ласка родных.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трудовое, практи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ческое воспитание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некому благос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вить”; возможность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самостоятельно определить свою дорогу жиз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560"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Антипод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836640"/>
          <a:ext cx="9144000" cy="5769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Цель жизни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6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оэтический идеал жизни;” цель была -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вся жизнь есть мысль и труд”;   Сейчас:”Какая у меня цель? Нет её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руд-цель жизни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жизнь Штольца с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точки зрения Обло-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мова :”ежедневная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пустая перетасовка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ней.”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Нет высокой цели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72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0400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798480"/>
          <a:ext cx="9144000" cy="60595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3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держание деятельности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Составление плана переустройства поместья; “вулканическая работа пылкой головы”;  “не привык к движению.”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Лишних движений у него не было”;”ехал посидеть на широком диване Обломова и отвести и успокоить встревоженную или усталую душу…”пустая су-ета, в итоге-“как будто жил вторично</a:t>
                      </a:r>
                      <a:r>
                        <a:rPr b="0" lang="en-US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6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a404"/>
                          </a:solidFill>
                          <a:latin typeface="Times New Roman"/>
                        </a:rPr>
                        <a:t>Двойник в большей степени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692280"/>
          <a:ext cx="9144000" cy="59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тношение к женщине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3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“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е был их рабом, поклонялся издали”;”признавал её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власть и права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женщина-мать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никогда - любовница.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Сама жизнь и труд есть цель жизни, а не женщина”;”он не хотел бы порывистой страсти, как не хотел её Обломов”; “ему грезилась мать - созида-тельница”; “не был рабом, не испытывал огненных радостей</a:t>
                      </a:r>
                      <a:r>
                        <a:rPr b="0" lang="en-US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26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.</a:t>
                      </a:r>
                      <a:endParaRPr b="0" lang="en-US" sz="26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42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a42f00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04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Семейная жизнь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5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Жена, дети, добрые соседи, хлопоты по хозяйству – это в мечтах; “ему некуда больше идти, нечего искать, идеал его жизни осуществился, хотя без поэзии”-жизнь с Пшеницыной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астала и тишина,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улеглись и порывы”;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“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сё как мечтал и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Обломов.” Устроенный Штольцем тихий уголок на крымском берегу напоминает старую Обломовку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861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Двойник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728640"/>
          <a:ext cx="9144000" cy="61293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4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Жизненная позиция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Обломов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Штоль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5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  “…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уша не рвётся, ум спит спокойно.</a:t>
                      </a:r>
                      <a:r>
                        <a:rPr b="0" lang="en-US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ru-RU" sz="4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 </a:t>
                      </a:r>
                      <a:endParaRPr b="0" lang="en-US" sz="4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“</a:t>
                      </a:r>
                      <a:r>
                        <a:rPr b="0" lang="ru-RU" sz="30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мы не титаны…мы не пойдём на дерзкую борьбу с мятежными вопросами, не примем их вызова, склоним головы и  смиренно переживем трудную минуту</a:t>
                      </a: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1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100a4"/>
                          </a:solidFill>
                          <a:latin typeface="Times New Roman"/>
                        </a:rPr>
                        <a:t>Двойни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Линия отношений Обломова и Штольца (в форме графика)"/>
          <p:cNvPicPr/>
          <p:nvPr/>
        </p:nvPicPr>
        <p:blipFill>
          <a:blip r:embed="rId1"/>
          <a:stretch/>
        </p:blipFill>
        <p:spPr>
          <a:xfrm>
            <a:off x="2195640" y="836640"/>
            <a:ext cx="4752720" cy="305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1547640" y="3933720"/>
          <a:ext cx="6840720" cy="274320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36828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Обломов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Штольц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146556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обрый, мягки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гостеприи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чувствительный, чутки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Ленив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Откровенный, холод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активный, разумный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сдержанный.</a:t>
                      </a:r>
                      <a:br>
                        <a:rPr sz="1800"/>
                      </a:br>
                      <a:r>
                        <a:rPr b="0" i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Деятельный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</a:tr>
              <a:tr h="916920"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6e4aa"/>
                          </a:solidFill>
                          <a:latin typeface="Times New Roman"/>
                        </a:rPr>
                        <a:t>Идеальным человеком принято считать того, у кого доминирующие качества не слишком ярко выражены (не доставляют проблем окружающим).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5e2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3"/>
          <p:cNvSpPr/>
          <p:nvPr/>
        </p:nvSpPr>
        <p:spPr>
          <a:xfrm>
            <a:off x="4481640" y="-4125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10920" y="691920"/>
            <a:ext cx="8156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бломов и Штольц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— люди с разным мировосприятием, а следовательно, и разными судьбами. Главное их отличие в том, что деятельный, энергичный Штольц сумел правильно распорядиться своей жизнью и природными талантами, пытаясь «донести сосуд жизни до последнего дня, не пролив ни одной капли напрасно». А у мягкого, доверчивого Обломова не хватало силы воли противостоять трудностям жизни и отстаивать свое право на существование и самореализацию. Он «свое уменье затерял еще в детстве, в Обломовке, среди теток, нянек и дядек. Началось с неуменья надевать чулки и кончилось неуменьем жить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8" name="Picture 2" descr="Кадр из фильма А. А. Адабашьяна и Н. С. Михалкова «Несколько дней из жизни И. И. Обломова». 1979-80"/>
          <p:cNvPicPr/>
          <p:nvPr/>
        </p:nvPicPr>
        <p:blipFill>
          <a:blip r:embed="rId1"/>
          <a:stretch/>
        </p:blipFill>
        <p:spPr>
          <a:xfrm>
            <a:off x="2627280" y="3789360"/>
            <a:ext cx="4286160" cy="295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1267920"/>
            <a:ext cx="8370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Вывод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бломов и Штольц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– это два человека, которые друг без друга существовать не могут. Они дополняют друг друга своими как отрицательными, как и положительными качествами. Их судьбы похожи, они не могут найти свое место в жизн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7724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“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Штольц на высокой ступени своей активной жизни оказывался тем же Обломовым…”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en-US" sz="4800" spc="-1" strike="noStrike">
                <a:solidFill>
                  <a:srgbClr val="a40400"/>
                </a:solidFill>
                <a:latin typeface="Times New Roman"/>
              </a:rPr>
              <a:t>(</a:t>
            </a:r>
            <a:r>
              <a:rPr b="0" lang="ru-RU" sz="4800" spc="-1" strike="noStrike">
                <a:solidFill>
                  <a:srgbClr val="a40400"/>
                </a:solidFill>
                <a:latin typeface="Times New Roman"/>
              </a:rPr>
              <a:t>Я.И.Кулешов.)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Цель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выяснить причины столь крепкой дружбы между двумя совершенно противоположными героям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00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ать описание главных героев романа И.А. Гончарова «Обломов»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найти различные и схожие черты этих героев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оставить схему взаимоотношений Обломова и Штольца на протяжении развития действия  романа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Илья Ильич Обломов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413000"/>
            <a:ext cx="822816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мещик, дворянин, живущий в Петербурге. Ведёт ленивый образ жизни, не занимаясь ничем, кроме рассуждени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Жизнь есть поэзия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Кого не любишь, кто не хорош, с тем не обмакнёшь хлеба в солонку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Всё знаю, всё понимаю - но силы и воли нет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Трудно быть умным и искренним в одно время, особенно в чувств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b5249"/>
                </a:solidFill>
                <a:latin typeface="Times New Roman"/>
              </a:rPr>
              <a:t>Страсть надо ограничить: задушить и утопить в женитьбе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9280" y="907920"/>
            <a:ext cx="81550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рожить жизнь счастливо; так, чтобы она “не трогала”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Восприятие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олеблющееся — от “приятного дара для наслаждения” до “пристает как забияки: то ущипнет исподтишка, то вдруг нагрянет прямо со лба и обсыплет песком… мочи нет!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Принципы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елать, что душа и сердце пожелает, даже если разум против; никогда не утруждатьс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Любовь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Никогда не была главной в его жизни, даже в истории с Ольгой она быстро угасл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Дружба.</a:t>
            </a:r>
            <a:r>
              <a:rPr b="0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ще в юности “холодно простился с толпой друзей”. Есть знакомые, но нет ни одного настоящего друга, кроме Штольца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Отношения с окружающими.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Мало кому известен, имеет очень узкий круг общения. Сам практически никого не знает. Тем не менее, имеет знакомых, пытающихся вытащить его в свет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b5249"/>
                </a:solidFill>
                <a:uFillTx/>
                <a:latin typeface="Times New Roman"/>
              </a:rPr>
              <a:t>Больше всего боялся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 всего трудного и труднодостижимого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stihi.ru/pics/2010/05/08/4169.jpg"/>
          <p:cNvPicPr/>
          <p:nvPr/>
        </p:nvPicPr>
        <p:blipFill>
          <a:blip r:embed="rId1"/>
          <a:stretch/>
        </p:blipFill>
        <p:spPr>
          <a:xfrm>
            <a:off x="4356000" y="2637000"/>
            <a:ext cx="4530960" cy="4005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www.libvrn.ru/OZ/Graphic/book/01_2.jpg"/>
          <p:cNvPicPr/>
          <p:nvPr/>
        </p:nvPicPr>
        <p:blipFill>
          <a:blip r:embed="rId2"/>
          <a:stretch/>
        </p:blipFill>
        <p:spPr>
          <a:xfrm>
            <a:off x="250920" y="1052640"/>
            <a:ext cx="4189320" cy="58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www.proza.ru/pics/2009/05/06/855.jpg"/>
          <p:cNvPicPr/>
          <p:nvPr/>
        </p:nvPicPr>
        <p:blipFill>
          <a:blip r:embed="rId3"/>
          <a:stretch/>
        </p:blipFill>
        <p:spPr>
          <a:xfrm>
            <a:off x="0" y="0"/>
            <a:ext cx="555480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www.taday.ru/data/170/641/1234/19390_Oblomov_CD2_02.jpg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573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Штольц Андрей Иванович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1915920"/>
            <a:ext cx="8137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руг детства Обломова, наполовину немец, практичный и деятельны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Это не жизнь, это какая-то... обломовщин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 (ч.2, гл.4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b5249"/>
                </a:solidFill>
                <a:latin typeface="Times New Roman"/>
              </a:rPr>
              <a:t>Труд - образ, содержание, стихия и цель жизни. По крайней мере, моей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Жизн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“труд — образ, содержание, стихия и цель жизни, по крайней мере моей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Восприятие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жизнь — счастье в труде; жизнь без работы — не жизнь; «…“жизнь трогает!” “И слава богу!” — сказал Штольц»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Принципы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: иметь “простой, то есть прямой, настоящий взгляд на жизнь — вот что было его постоянною задачею…”,“Выше всего он ставил настойчивость в достижении целей…”, “…измерит бездну или стену, и если нет верного средства одолеть, он отойдет”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Любовь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Штольц любил не сердцем, а разумом, в каждом движении души и сердца искал рациональное объяснение. Поэтому и в молодости “среди увлечения чувствовал землю под ногой”, так как везде искал ум, а не страсть.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Дружба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Друзей у Штольца всегда и везде было много — люди тянулись к нему. Но он чувствовал близость только к людям-личностям, искренним и порядочным. Действительно, настоящих друзей, таких как Илья Ильич и Ольга Сергеевна, у него было не так уж и много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Отношения с окружающими.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Все знают его, он знает всех. Он никого не оставляет к себе равнодушным — его или уважают и ценят или боятся и ненавидят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b5249"/>
                </a:solidFill>
                <a:latin typeface="Times New Roman"/>
              </a:rPr>
              <a:t>Больше всего боялся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 того, что ему непонятно или недоступно, и всячески обходил это: от страстей до воображения; но при любом подходящем случае пытался найти ключ к этому, пока непостижимому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374760" indent="-37476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http://live4fun.ru/pictures/img_37744038_8558_1.jpg"/>
          <p:cNvPicPr/>
          <p:nvPr/>
        </p:nvPicPr>
        <p:blipFill>
          <a:blip r:embed="rId1"/>
          <a:stretch/>
        </p:blipFill>
        <p:spPr>
          <a:xfrm>
            <a:off x="4335480" y="0"/>
            <a:ext cx="480852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http://www.ljplus.ru/img4/p/i/pics3000/Oblomov-2.avi_snapshot_00.52.38__2010.11.30_23.21.10_.jpg"/>
          <p:cNvPicPr/>
          <p:nvPr/>
        </p:nvPicPr>
        <p:blipFill>
          <a:blip r:embed="rId2"/>
          <a:stretch/>
        </p:blipFill>
        <p:spPr>
          <a:xfrm>
            <a:off x="4227480" y="3141720"/>
            <a:ext cx="4916520" cy="3716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g.labirint.ru/images/news/5541_1279280583.jpg"/>
          <p:cNvPicPr/>
          <p:nvPr/>
        </p:nvPicPr>
        <p:blipFill>
          <a:blip r:embed="rId3"/>
          <a:stretch/>
        </p:blipFill>
        <p:spPr>
          <a:xfrm>
            <a:off x="0" y="0"/>
            <a:ext cx="485316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Alexsandrit</cp:lastModifiedBy>
  <dcterms:modified xsi:type="dcterms:W3CDTF">2014-01-17T22:39:35Z</dcterms:modified>
  <cp:revision>30</cp:revision>
  <dc:subject/>
  <dc:title>ОБЛОМОВ И ШТОЛЬЦ</dc:title>
</cp:coreProperties>
</file>